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AF08-FB95-4ED0-9C34-D3BDF8500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3ED9-1E90-4DCC-A363-A52B03E00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F587-FA27-446B-95E1-C02910CD3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119F-7505-4F68-9BF1-94686A3F6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8519-D8E6-42C3-8697-713928FD1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4E42-6ABE-430C-BB15-872B36F3C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6456-17DD-42EF-A92A-E87207021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5AC8-533D-46FE-90A6-6D02A4D13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992F-FFB5-48E7-A8DF-2184FE755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B419-CFD1-4E0A-BFEF-9A0DF488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A46D-59C0-43D0-895A-CF97E220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F956-FD60-4FD4-BBD5-D99F6371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96843-7D54-4852-B101-E3306A3B1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809720"/>
            <a:ext cx="6480000" cy="5048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256360" y="0"/>
            <a:ext cx="3887640" cy="3029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814880" y="2852640"/>
            <a:ext cx="927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00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15720" y="915840"/>
            <a:ext cx="2197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fr-FR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fr-FR" sz="3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Arial"/>
              </a:rPr>
              <a:t>→e</a:t>
            </a:r>
            <a:r>
              <a:rPr b="0" lang="fr-FR" sz="3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10520" y="587700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/4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PHYS v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6T15:05:25Z</dcterms:created>
  <dc:creator>J.E Campagne</dc:creator>
  <dc:description/>
  <dc:language>en-US</dc:language>
  <cp:lastModifiedBy>J.E Campagne</cp:lastModifiedBy>
  <dcterms:modified xsi:type="dcterms:W3CDTF">2006-04-06T15:06:11Z</dcterms:modified>
  <cp:revision>2</cp:revision>
  <dc:subject/>
  <dc:title>Diapositive 1</dc:title>
</cp:coreProperties>
</file>